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jetflyby2.wav" ContentType="audio/x-wav"/>
  <Override PartName="/ppt/media/bserie06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963-BF36-4A5D-A52C-32F62DAB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E3D-BFDE-49C2-894C-777FCF31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1675-A286-4266-BB94-3756FE29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669-C8A9-4EB2-8925-64079364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EBB-8852-4D66-B13D-9E352F07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167-1AD4-4910-B080-201FB3AB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989-C86B-4D8D-B242-862C70E4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455-D9A1-46C5-9E8E-184E2CAA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776-67B9-4063-A2FA-4D2044B5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766-8F14-4B53-A10C-85A82DF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037-65CD-4AFC-9BBC-E2D070F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90D-2C42-4B42-806E-B51BD49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DA3B-EA4C-4DBF-98DC-5DAA6947C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3240" y="266868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6.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1880" y="410544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8800" y="4021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03480" y="327168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55920" y="3305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4920" y="40244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7800" y="402732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1920" y="4016520"/>
            <a:ext cx="7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0120" y="2092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1.  16.25 + 8.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2.  5.29 – 1.75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6100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2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32120" y="404640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98880" y="3922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49320" y="32655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27360" y="3924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7080" y="392904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9640" y="20415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46480" y="288108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9520" y="268452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6120" y="303372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0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55840" y="4470480"/>
            <a:ext cx="222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0280" y="4373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27440" y="3637080"/>
            <a:ext cx="19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0.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9520" y="3670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86040" y="43768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89280" y="437976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73400" y="4368960"/>
            <a:ext cx="7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24200" y="3030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3.  9 + 1.05 + 20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417760"/>
            <a:ext cx="26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0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3240" y="266868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9.0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1880" y="410544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98800" y="4021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3480" y="327168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55920" y="33051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44920" y="402444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47800" y="4027320"/>
            <a:ext cx="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1920" y="4016520"/>
            <a:ext cx="7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0120" y="2092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4.  39 + 2.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Add or Subtract Decim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920" y="1193760"/>
            <a:ext cx="70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5.  67 – 6.9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26100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7.0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2120" y="404640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8880" y="3922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49320" y="326556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3924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7080" y="392904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9640" y="20415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346480" y="2881080"/>
            <a:ext cx="361800" cy="49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9520" y="268452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65520" y="2004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46440" y="2859120"/>
            <a:ext cx="419040" cy="433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63880" y="2676600"/>
            <a:ext cx="53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7360" y="393552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17, 5 – 3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4T17:54:17Z</dcterms:modified>
  <cp:revision>49</cp:revision>
  <dc:subject/>
  <dc:title>Slide 1</dc:title>
</cp:coreProperties>
</file>